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7CD-3DAB-4988-A7F5-BE250804C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74F-BC1F-4857-A25F-13AC8477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DF17-0237-4950-85AE-7597765FB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05CF-8685-4A25-A815-3DC883094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7973-8213-4B67-9B7F-111463D8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1F95-066D-46FA-9491-1BDB1D55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627C-7C2B-45E5-B02C-A5A167D9C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EFEE-133E-4F0A-9D51-3543FB00A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47A0-6088-4001-8C4A-92CE7629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7AF1-34B9-4226-AAF8-B10DB02A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B3E3-0684-4D85-B0F0-5C558B466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2D4E-4332-45CF-BC42-7A394DE49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7C6-FB0A-4A56-BEC5-6424729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610-EE6D-4572-9EFF-B313C8D8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060-3FAA-4071-9237-41D33A3A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7AF-7C2F-44C7-8E73-7BC31149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97EA-BFAF-4023-A9BC-3CC011448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83DC-3975-40F0-8C75-13C8E43E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E844-6175-4793-AF7A-4F498063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434C-EF7A-4281-93FD-A4623F71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9909-7E93-4349-A3D5-614B5FEF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4570-7FF0-4C8B-9127-CC114CA1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2A3-7EA7-443F-B58F-363C24C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D98-DF2D-430E-9BF8-D2F8C5CB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9577-20BA-43E7-9821-7DD751D0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44EB-A2FA-470E-96D1-1F938E3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8F50-3164-4763-868B-18AF5E9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B1F2-1851-4CD8-90B2-C49FB8FF9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F771-F748-4D3E-B168-9B777CAF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576-403E-4E86-A77B-50A880F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B63-8954-42E6-AC9E-71E1B74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3B4-718A-4B16-B2BF-D6F209B7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7A89-B716-48EA-8539-A3D4B741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8D2B-338C-425B-BB92-C3CB93C9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5C5-CA8F-469E-ADC8-134C9345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575C-6878-49AC-90A0-51AE4E1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DC7-7D30-40DA-8817-6DE4FD40F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1CBB-FAD0-4574-B5B1-F21543DAB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410920" y="55166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ф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329200" y="1262160"/>
            <a:ext cx="442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грисане академске студије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медицин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СПОРТСКА МЕД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2286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см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СНОВИ СПОРТСКЕ НУТРИ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Грешке у исхрани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77336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вољна нутритивна едук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инансијска ограниченост у избору намир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ањак времена који отежава одабир х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еста путова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разноврсна и монотона исх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ескакање об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лики размаци између обро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мањен унос воде и спортских пић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вољан број порција воћа, поврћа, млека и млечних производ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већан унос брзе хране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6400" indent="-356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нергетски баланс спорти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119640" cy="4248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39640" y="5732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нергетски унос се мери дневником исх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нергетска потрошња се мери директном или индиректном калориметријом, спирометријом, методом двоструко обележене воде и акцелерометр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сновни принципи спортске ис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2060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пш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мерниц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угљени хидрати (55–60%)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асти (до 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протеини (10– 1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258920" y="3933720"/>
            <a:ext cx="6265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Основни принципи спортске ис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пшт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мерниц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 главна оброка и 2 уж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равилан процентуални однос макронутријената у дневном енергетском унос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ступљеност свих група намирн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декватан енергетски унос  (у циљу постизања енергетског баланса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довољан унос течности и правилна хидрат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20480" indent="-4204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71769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Улога правилне исхране у опорав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42064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роцеси у опоравку спортис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обнова депоа гликогена у мишићима и јет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надокнаду течности и електролита (изгубљених знојење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синтеза нових протеина (након катаболизма насталог услед вежбањ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обнова имуног система (у циљу очувања општег здрављ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68360" y="2708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Макр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утритијетни у спортској исх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угљених хидрата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Calibri"/>
              </a:rPr>
              <a:t>Представљају основу исхране спортиста (директно учествују у депоновању гликогена који се користи као извор енергије током такмичења и тренинга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бухватају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моносахариде (глукоза, галактоза, фруктоза, сорбитол, манито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олигосахариде (сахароза, лактоза, малтоз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полисахариде (скроб, амилоза, амилопекти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Гликоген - депо глукозе у мишићима и јетр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ишен унос УХ омогућава повећање залиха мишићног гликоге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епоновање мишићног гликогена је највеће током 1. сата после вежбањ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то је рани унос УХ после вежбања изузетно важан (омогућава ефикасни опоравка мишићне ћелије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Гликемијски индекс (Г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915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рој који показује како УХ утичу на ниво глукозе у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укоза има гликемијски индекс 100 (остала храна има нижи ин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изак гликемијски индекс обезбеђује лагано отпуштање глукозе у кр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мирнице с високим гликемијским индексом брже подижу гликемиј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орук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 тренинга треба узимати намирнице ниског Г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 1. сату након физичке активности треба користити намирнице средњег и високог 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ставити њихово уношење током следећег сата (обнављање залихе гликог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сти УХ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и УХ (моносахариди)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аткиши, газирани напици, чоколада, производи од рафинисаног шећера, прозводи од белог брашна, ит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сти УХ брзо подижу ниво глукозе у крви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исок гликемијски ин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исте се за брзу надокнаду потрошене енергије (после тренинг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бог наглог скока (и последично и пада глукозе у крви) просте УХ треба избегавати пре тренинга или такмич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Њихово конзумирање непосредно пре активности може да изазове хипогликемију (губитак неопходне енерг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1267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ложени УХ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ичу од интегралних житарица, махунарки, коштуњавих плодова и повр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лажу се постепено - њихов садржај шећера се лагано ослобађа у крвоток (лагано лучење инсулин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ени УХ брзо постепено подижу ниво глукозе у крви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изак гликемијски индек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орука је да се користе најмање сат времена пре такмичења (како би се обезбедило довољно енергије за физичку активнос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ealthy Lifestyle Sports Nutrition Athlete Food Stock Vector (Royalty Free)  437993680"/>
          <p:cNvPicPr/>
          <p:nvPr/>
        </p:nvPicPr>
        <p:blipFill>
          <a:blip r:embed="rId1"/>
          <a:srcRect l="0" t="13635" r="0" b="27283"/>
          <a:stretch/>
        </p:blipFill>
        <p:spPr>
          <a:xfrm>
            <a:off x="395280" y="1773360"/>
            <a:ext cx="8353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ернице за унос УХ -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8166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341000"/>
            <a:ext cx="85168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ернице за унос УХ -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8064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протеина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теини - макромолекули који се састоје од комбинације 21 амино-кисел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лога протеина у организм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структурна, ензимска, имунолошка (заштитн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хормонска и неуротрансмитерс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транспортна, енергетска, пуферска (одржавање нормалног pH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смотска (одржавање оптималног баланса течности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механич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есенцијалних АМ: фенилаланин, валин, треонин, триптофан, метионон, леуцин, изолеуцин, лизин и хистид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есенцијалне АМ: аланин, аспартат, цистеин, глутамат, глутамин, глицин, пролин, серин, аспарагин, пиролизи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е аминокиселине су условно есенцијалне (према различитим подела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протеина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пуни (комплетни) протеини (месо, млеко, јаја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имично непотпуни (сочиво, пасуљ и друго махунасто поврће, коштуњави плодо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потпуни протеини (житариц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лике комплетних протеи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адрже све есенцијалне киселине у свом састав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мају правилан однос аминокисел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мажу у одржавању азотног бала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опходни су за раст и развој тк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јчешће потичу из животињских произво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лике некомплетних протеи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достаје им једна или више 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360" indent="-324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уготрајан унос доводи до неухрањености и углавном потичу из намирница биљног порек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протеина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1483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реднице за унос протеина путем хран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количина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тип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време уноса протеи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нос угљених хидрата заједно с протеин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 спортиста конзумира велику количину протеина (&gt;2 до 3 g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g/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сок унос протеина у циљу постизања јаче мишићне масе није утемељен у релевантној научној литера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ак унетих протеина користи се за енергетски метаболизам (након деаминације) или се рециклира у масти и депону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сок унос протеина ремети функцију бубрега и јетре (услед елиминације уреје и других продуката метаболизма азо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alibri"/>
              </a:rPr>
              <a:t>Препоручен дневни унос про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683480" cy="30974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684360" y="4653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тимална количина протеина је она доза која максимално стимулише синтезу протеина (али се још увек не оксидише и не стимулише продукцију уре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ланс азота је параметар којим одређујемо однос уноса и потрошње протеина у орган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адржај протеина у неким намирницама на 100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508640" cy="23763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611280" y="443700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јбољи извор амино-киселина јесте протеин сурутке (највише стимулише анаболички одговор скелетних мишић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ајбоље време за унос протеина - непосредно након вежб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мбинована ингестија протеина и угљених хидрата поспешује баланс протеина током високоинтензивног тренинга и инхибира интензитет оштећења 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масти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557360"/>
            <a:ext cx="822960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лога масти у исхран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енергетске и резервне матер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вор есенцијалних масних киселина неопходних за синтезу еикозано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вор липосолубилних витамина (A, D, E и 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звор провитамина (карот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труктурна улога (улазе у састав ћелијских мембр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кундарни гласн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тичу на физичке и органолептичке особине 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значајнији липиди у исхрани: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иглицериди, масне киселине, фосфолипиди и холестер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6560" indent="-286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масти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5280" y="177336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пору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енергетски унос пореклом из масти &lt; 30% укупног дневног енергетског ун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сићене МК &lt; 10% укупног уноса м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засићене МК - 70% до 80% укупног уноса м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линезасићене/ мононезасићене МК - 50%: 50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&lt; 300 mg холестерола днев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век треба бирати незасићене масти (употребу засићених и трансмасти свести на миниму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мирнице богате квалитетним мастима - риба, посно месо, маслиново уље, ланено уље, кикирики путер, семенке и коштуњави плодови (бадеме, лешнике, орах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5183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начај влакана у спортској исхра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55736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лакна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рста сложених угљених хидрата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биљног порекла које не могу да се свар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логе влакана: снижење крвног притиска, нивоа холестерола, глукозе у крви, смањују ризик од појаве малигних обољења, редукују телесну мас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а: најмање 2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/д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е на она која су растворна у води и она која су нераство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вори растворних влакана: воће (јабуке, поморанџе, крушке, јагоде, ораси), поврће (краставац, целер, шаргарепа), житарице, мекиње, зоб и махунарке (пасуљ, грашак, сочиво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ворна влакна везују воду (стварају једну врсту гела) - успоравају варење хране и пражњење цр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вај начин утичу на то да осећај ситости дуже траје, што може бити врло погодно за редукцију телесне ма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160" indent="-218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riathlon | Allans triatlonverden | Side 2"/>
          <p:cNvPicPr/>
          <p:nvPr/>
        </p:nvPicPr>
        <p:blipFill>
          <a:blip r:embed="rId1"/>
          <a:stretch/>
        </p:blipFill>
        <p:spPr>
          <a:xfrm>
            <a:off x="2124000" y="1125360"/>
            <a:ext cx="4824360" cy="422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Improve Your Productivity &amp;amp; Focus Through Diet, Rest, &amp;amp; Exercise - Reset  {Basics}"/>
          <p:cNvPicPr/>
          <p:nvPr/>
        </p:nvPicPr>
        <p:blipFill>
          <a:blip r:embed="rId2"/>
          <a:stretch/>
        </p:blipFill>
        <p:spPr>
          <a:xfrm>
            <a:off x="1619280" y="1125360"/>
            <a:ext cx="5911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68360" y="2708280"/>
            <a:ext cx="7848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иљеви спортске исхране пре, током и након трен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А ПРЕ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ок који спортиста козумира 1–4 h пре тренинга омогућава допуну резерви гликогена у мишићима и нарочито у јетри, који су потрошени током спав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ок пре тренинга треба да буде богат УХ (1–4 g/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g/т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поручује унос мањег оброка ниског гликемијског индекса (30–60 мин пре тренинга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езбеђује постепено ослобађање глукозе током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мањује ризик од пада нивоа глукозе у крви на почетку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већава метаболизам масти (обезбеђује додатну енергија - важно за спортов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адржај УХ и ГИ у намирниц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Примери оброка пре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01080" cy="3672000"/>
          </a:xfrm>
          <a:prstGeom prst="rect">
            <a:avLst/>
          </a:prstGeom>
          <a:ln w="0">
            <a:noFill/>
          </a:ln>
        </p:spPr>
      </p:pic>
      <p:sp>
        <p:nvSpPr>
          <p:cNvPr id="160" name="Straight Connector 4"/>
          <p:cNvSpPr/>
          <p:nvPr/>
        </p:nvSpPr>
        <p:spPr>
          <a:xfrm>
            <a:off x="1547640" y="3068640"/>
            <a:ext cx="280836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А ТОКОМ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току тренинга долази до потрошње резерви гликогена (умањује спортске перформанс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нос УХ током тренинга обезбеђује додатну енергију за рад мишића и ЦН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фекат  УХ се остварује путем механизам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штедња резерви гликог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нос доступних супстрата за рад 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венција хипогликем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ктивација центара у ЦНС-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ичина УХ коју треба унети током тренинга зависи од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рсте, интензитета и трајања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слова спољашње сред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тепена припремљености спортис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А ТОКОМ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2060280"/>
            <a:ext cx="83516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вежбања која трају од 30 до 60 минута није неопходно уносити УХ (постојеће резерве гликогена обезбеђују довољно енергиј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оком тренинга који траје од 45 до 75 минута потребно је унети мале количине угљених хидра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Испирање уста раствором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- Учестали контакт УХ и рецептора у усној дупљи стимулише рецепторе у ЦНС-у (повећава осећај угодности и побољшава свесни рад током тренинг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току продуженог вежбање (дуже од 1 h) неопходно је унети додатну количину угљених хидрата (зависи од трајања и интензитета вежбањ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епоруке за унос УХ током вежбања различитог трај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88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А НАКОН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иљ исхране након тренинг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адокнада резерви гликогена у јетри и мишићим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надокнада течности и електролит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регенерација тк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процеси адаптације након катаболичког стреса и оштећења која настају као последица тренин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А НАКОН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844640"/>
            <a:ext cx="835164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репору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конзумација 1–1,2 g УХ/kg/сат током 4 до 6 сати након тренинга (са уносом треба почети у року од 30 минута након тренинг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Х требају да буду средњег до високог Г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Унос око 25 g пуновредних протеина непосредно након тренинга (стимулација синтезе протеина мишић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отеини високе биолошке вредности - месо, млеко и ј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отеини сурутке се брзо варе и брзо апсорбују (најефикасније стимулише синтезу протеина и оксидациј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16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поруке за оброк пре, током и после физичке а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755640" y="1585800"/>
            <a:ext cx="7632720" cy="45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763640" y="2565360"/>
            <a:ext cx="581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утриција у спор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2637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ИЉЕВИ СПОРТСКЕ ИС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3213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ЕВИ СПОРТСКЕ ИСХРАНЕ НА ТРЕНИНГУ И ТАКМИЧ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0" t="0" r="0" b="2752"/>
          <a:stretch/>
        </p:blipFill>
        <p:spPr>
          <a:xfrm>
            <a:off x="1763640" y="2133720"/>
            <a:ext cx="5676840" cy="381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rcRect l="0" t="0" r="0" b="98385"/>
          <a:stretch/>
        </p:blipFill>
        <p:spPr>
          <a:xfrm>
            <a:off x="1763640" y="5950080"/>
            <a:ext cx="5676840" cy="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ЉЕВИ СПОРТСКЕ ИСХРАНЕ НА ТРЕНИНГУ И ТАКМИЧЕ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0" t="0" r="0" b="2752"/>
          <a:stretch/>
        </p:blipFill>
        <p:spPr>
          <a:xfrm>
            <a:off x="1692360" y="1844640"/>
            <a:ext cx="5748120" cy="3816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1692360" y="2349360"/>
            <a:ext cx="57592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утритивни статус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е нутритивне потребе зависе од физиолошких захтева тренинга, животног стила спортисте и карактеристика сп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метри за одређивање нутритивног стату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тропометријска мере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интернистички прегле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иохемијске анализе крв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ијетарни унос микро- и макроелемена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аћење дијетарног уно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нос хране у претходна 24 са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пуњавање упитника о учесталости уноса намирниц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ођење дневника исхране (у року од 3–7 да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Нутритивне навике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хватај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рој обро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личину унете х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маке између об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рану пре тренинга или такмич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рану током или такмич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рану после тренинга или такмичењ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7:59:30Z</dcterms:created>
  <dc:creator>Vlada Zivkovic</dc:creator>
  <dc:description/>
  <dc:language>en-US</dc:language>
  <cp:lastModifiedBy>Editor</cp:lastModifiedBy>
  <dcterms:modified xsi:type="dcterms:W3CDTF">2024-04-08T09:45:07Z</dcterms:modified>
  <cp:revision>436</cp:revision>
  <dc:subject/>
  <dc:title>Slide 1</dc:title>
</cp:coreProperties>
</file>